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26.gif" ContentType="image/gif"/>
  <Override PartName="/ppt/media/image29.wmf" ContentType="image/x-wmf"/>
  <Override PartName="/ppt/media/image19.jpeg" ContentType="image/jpeg"/>
  <Override PartName="/ppt/media/image18.png" ContentType="image/png"/>
  <Override PartName="/ppt/media/image8.jpeg" ContentType="image/jpeg"/>
  <Override PartName="/ppt/media/image5.png" ContentType="image/png"/>
  <Override PartName="/ppt/media/image13.jpeg" ContentType="image/jpeg"/>
  <Override PartName="/ppt/media/image40.jpeg" ContentType="image/jpeg"/>
  <Override PartName="/ppt/media/image17.wmf" ContentType="image/x-wmf"/>
  <Override PartName="/ppt/media/image9.png" ContentType="image/png"/>
  <Override PartName="/ppt/media/image11.jpeg" ContentType="image/jpeg"/>
  <Override PartName="/ppt/media/image36.jpeg" ContentType="image/jpeg"/>
  <Override PartName="/ppt/media/image30.jpeg" ContentType="image/jpeg"/>
  <Override PartName="/ppt/media/image16.jpeg" ContentType="image/jpeg"/>
  <Override PartName="/ppt/media/image35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9.wmf" ContentType="image/x-wmf"/>
  <Override PartName="/ppt/media/image41.jpeg" ContentType="image/jpeg"/>
  <Override PartName="/ppt/media/image4.jpeg" ContentType="image/jpeg"/>
  <Override PartName="/ppt/media/image38.wmf" ContentType="image/x-wmf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12.jpeg" ContentType="image/jpeg"/>
  <Override PartName="/ppt/media/image28.wmf" ContentType="image/x-wmf"/>
  <Override PartName="/ppt/media/image37.jpeg" ContentType="image/jpeg"/>
  <Override PartName="/ppt/media/image6.png" ContentType="image/png"/>
  <Override PartName="/ppt/media/image14.wmf" ContentType="image/x-wmf"/>
  <Override PartName="/ppt/media/image3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43A2-95C1-4992-B1D8-F3174B7802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rganized public procession on a festive or ceremonial occa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rganized public procession on a festive or ceremonial occa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we live in that consists of the 50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we live in that consists of the 50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works for the government that helps to make and create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 was a se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works for the government that helps to make and create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 was a se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u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 induction into office. A formal beginning or int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resident has an inauguration into the Presid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u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 induction into office. A formal beginning or int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resident has an inauguration into the Presid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chelle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’s wif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chelle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’s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20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e of the inau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20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e of the inau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ule of conduct or procedure established by custom, agreement, or autho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ule of conduct or procedure established by custom, agreement, or autho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ece of cloth, usually rectangular, of distinctive color and design, used as a symb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ece of cloth, usually rectangular, of distinctive color and design, used as a symb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in charge that you may listen to or follow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in charge that you may listen to or follow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lemn, formal declaration or promise to fulfill a p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lemn, formal declaration or promise to fulfill a p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is elected to have authority or control over a group of peop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is elected to have authority or control over a group of peo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ia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daughter. She is in the 5th gr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ia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daughter. She is in the 5th g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ed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hired to protect the President at all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hired to protect the President at all 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sha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 youngest daughter. She is in the 2nd gr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sha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 youngest daughter. She is in the 2nd g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away from danger or h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and dad always protect me by holding my hand when I cross the str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away from danger or h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and dad always protect me by holding my hand when I cross the str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ecutive mansion of the President of the United States. This is where the President lives and wo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ecutive mansion of the President of the United States. This is where the President lives and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tivity  you do that you produce or accomplish some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ckson had to work hard on his science pro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had to go to work at the hospital yeste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tivity  you do that you produce or accomplish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ckson had to work hard on his scienc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had to go to work at the hospital yeste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ing to a large group of people. Who is giving this spee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tin Luther King J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ing to a large group of people. Who is giving this spee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tin Luther King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one says that they will or will not do some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one says that they will or will not d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al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al Office is the president's formal work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he often addresses the American public and the world on television or rad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president deals with the issues of the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al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al Office is the president's formal work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he often addresses the American public and the world on television or rad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president deals with the issues of the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D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’s capit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nt to Washington D.C. and saw the White House and the Washington Mon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D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’s capi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nt to Washington D.C. and saw the White House and the Washington Mon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or ability to make a cho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or ability to make a ch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0714-8384-4345-A273-FB4ED24E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11B-C47B-4C29-ABAD-13A534D7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C4D-485C-4A35-852A-97DF4F5A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C723-1E99-4188-8452-27B097E6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3541-6FD5-4960-8303-BFDB7374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8323-1050-4BA3-B181-15550942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4A58-ED3D-44E9-90B7-C5DE8224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E261-499B-45F0-A929-8710729E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DD14-0F45-4944-99C8-DF2180B3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6AE3-E4DE-4CBE-B45F-F11FAFCA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6ECD-3841-41F6-A0E7-89F3E46B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B25-6E20-47C1-909B-A0E45767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4438-4088-4605-A9AC-212DE276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13B7-A36C-4A9F-A117-77C2E577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9A2B-B89B-400C-868D-4BA1938F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8389-4041-4C04-A803-F91EB77D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B858-0C75-4E0E-AE15-74FD57F1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1786E-8A71-4C02-AE38-FBC81044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2B6A1-1B58-43DE-9A4B-A3715245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22B37-B77A-4728-80AC-C8898395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CC529-30AD-4CEA-AB10-CCD41863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DB10E-4FAA-42CD-8220-A8B3FC09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CDE-87D5-4777-A17D-C2E3BD58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6B866-8290-4D32-B5B7-D99393EA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23ED8-455F-428B-8D8F-F44016F3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615D0-8587-4211-971B-47D666F4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47C9E-E699-4F2F-9F66-B41052EA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F0266-C7B5-4480-B630-10D6DCAB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9A3B0-2ACA-40E5-8175-4E41D762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223B7-46D0-4069-BC3B-C11FDA48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7562F-64D2-4609-B38C-316A9192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E4995-5A82-42D3-99C4-655F2989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EE7CC-3837-4316-83EC-EBB5BF4F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4D5-AF30-4C13-A903-139118E8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51A3E-AADF-4DF2-AE6D-5120427A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F6483-F8A3-4462-816E-BB0A6069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923BB-88A2-4FE9-83CD-BA715D03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061DD-762C-4122-80A8-9020A174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B0B52-82B3-45EE-94F4-EC2BB7F8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C7FCA-F403-4116-804B-CF5C7F4A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3FE35-1550-413E-917B-3C34E76E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9EB68-A908-4F71-A99C-37DD3ADE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902CA-5419-4720-9CBC-F3336562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7C7C-D562-482E-A917-46C352EF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BD7C-7D01-4CB3-A899-F09463DA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1DAF-EC57-4BEF-826E-5D5B3603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B45A-883C-4979-8373-47F7521A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5047-6DEE-40AD-BA1F-CD98583C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0FB4-4BDB-43FE-8490-37D9BCDE7B6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628E-6A18-49F6-BBC0-9496DFD804D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BB14-FABA-4BEB-9FAE-F9296684A41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A3AA-06DC-4C3C-A260-3BA092CC789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aps.google.com/maps?hl=en&amp;q=map+of+us&amp;um=1&amp;ie=UTF-8&amp;split=0&amp;sa=X&amp;oi=geocode_result&amp;resnum=1&amp;ct=image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28520"/>
            <a:ext cx="8431560" cy="2028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barack obama.jpg"/>
          <p:cNvPicPr/>
          <p:nvPr/>
        </p:nvPicPr>
        <p:blipFill>
          <a:blip r:embed="rId2"/>
          <a:stretch/>
        </p:blipFill>
        <p:spPr>
          <a:xfrm>
            <a:off x="6022800" y="2097000"/>
            <a:ext cx="2084400" cy="2889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Photo of the Presidential Seal"/>
          <p:cNvPicPr/>
          <p:nvPr/>
        </p:nvPicPr>
        <p:blipFill>
          <a:blip r:embed="rId3"/>
          <a:stretch/>
        </p:blipFill>
        <p:spPr>
          <a:xfrm>
            <a:off x="914400" y="1981080"/>
            <a:ext cx="3362400" cy="3381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ra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organized public procession on a festive or ceremonial occa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MSj00749390000[1].wav" descr=""/>
          <p:cNvPicPr/>
          <p:nvPr/>
        </p:nvPicPr>
        <p:blipFill>
          <a:blip r:embed="rId1"/>
          <a:stretch/>
        </p:blipFill>
        <p:spPr>
          <a:xfrm>
            <a:off x="380880" y="6019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ttp://www.fotosearch.com/bthumb/EYW/EYW115/e008561.jpg"/>
          <p:cNvPicPr/>
          <p:nvPr/>
        </p:nvPicPr>
        <p:blipFill>
          <a:blip r:embed="rId2"/>
          <a:stretch/>
        </p:blipFill>
        <p:spPr>
          <a:xfrm>
            <a:off x="762120" y="3200400"/>
            <a:ext cx="3438360" cy="2286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www.fotosearch.com/bthumb/GLW/GLW465/gwt235001.jpg"/>
          <p:cNvPicPr/>
          <p:nvPr/>
        </p:nvPicPr>
        <p:blipFill>
          <a:blip r:embed="rId3"/>
          <a:stretch/>
        </p:blipFill>
        <p:spPr>
          <a:xfrm>
            <a:off x="6477120" y="584280"/>
            <a:ext cx="2000160" cy="1473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http://www.fotosearch.com/bthumb/ICN/ICN178/F0002806.jpg"/>
          <p:cNvPicPr/>
          <p:nvPr/>
        </p:nvPicPr>
        <p:blipFill>
          <a:blip r:embed="rId4"/>
          <a:stretch/>
        </p:blipFill>
        <p:spPr>
          <a:xfrm>
            <a:off x="5181480" y="2438280"/>
            <a:ext cx="2748240" cy="413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1954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nited St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ountry we live in that consists of the 50 sta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http://www.google.com/mapdata?CxXA8zUCHYWJS_og____________AQwtwPM1AjWFiUv6QLACSJwBUgJVU2gBkAEPygECZW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819520"/>
            <a:ext cx="708660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na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erson who works for the government that helps to make and create law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 was a senato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http://www.fotosearch.com/bthumb/phd/PHD162/25043.jpg"/>
          <p:cNvPicPr/>
          <p:nvPr/>
        </p:nvPicPr>
        <p:blipFill>
          <a:blip r:embed="rId1"/>
          <a:stretch/>
        </p:blipFill>
        <p:spPr>
          <a:xfrm>
            <a:off x="762120" y="3378240"/>
            <a:ext cx="1752480" cy="2660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http://www.fotosearch.com/bthumb/UNU/UNU126/u11737664.jpg"/>
          <p:cNvPicPr/>
          <p:nvPr/>
        </p:nvPicPr>
        <p:blipFill>
          <a:blip r:embed="rId2"/>
          <a:stretch/>
        </p:blipFill>
        <p:spPr>
          <a:xfrm>
            <a:off x="4419720" y="3581280"/>
            <a:ext cx="4141800" cy="275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augu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al induction into office. A formal beginning or introduc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ery president has an inauguration into the Presidenc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chelle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wif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2" descr="Malia Obama Picture"/>
          <p:cNvPicPr/>
          <p:nvPr/>
        </p:nvPicPr>
        <p:blipFill>
          <a:blip r:embed="rId1"/>
          <a:stretch/>
        </p:blipFill>
        <p:spPr>
          <a:xfrm>
            <a:off x="1676520" y="2514600"/>
            <a:ext cx="498456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anuary 20, 200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date of the inaugu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3" descr="C:\Documents and Settings\jones62\Local Settings\Temporary Internet Files\Content.IE5\3Q3XBORY\MMj02831900000[1].gif"/>
          <p:cNvPicPr/>
          <p:nvPr/>
        </p:nvPicPr>
        <p:blipFill>
          <a:blip r:embed="rId1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Documents and Settings\jones62\Local Settings\Temporary Internet Files\Content.IE5\3Q3XBORY\MMj02831900000[1].gif"/>
          <p:cNvPicPr/>
          <p:nvPr/>
        </p:nvPicPr>
        <p:blipFill>
          <a:blip r:embed="rId2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Documents and Settings\jones62\Local Settings\Temporary Internet Files\Content.IE5\3Q3XBORY\MMj02831900000[1].gif"/>
          <p:cNvPicPr/>
          <p:nvPr/>
        </p:nvPicPr>
        <p:blipFill>
          <a:blip r:embed="rId3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Documents and Settings\jones62\Local Settings\Temporary Internet Files\Content.IE5\6I1F02F0\MCj02329220000[1].wmf"/>
          <p:cNvPicPr/>
          <p:nvPr/>
        </p:nvPicPr>
        <p:blipFill>
          <a:blip r:embed="rId4"/>
          <a:stretch/>
        </p:blipFill>
        <p:spPr>
          <a:xfrm>
            <a:off x="2022480" y="2506680"/>
            <a:ext cx="5195880" cy="3360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aw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rule of conduct or procedure established by custom, agreement, or author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C:\Documents and Settings\jones62\Local Settings\Temporary Internet Files\Content.IE5\ZO7J9NGJ\MCj02411730000[1].wmf"/>
          <p:cNvPicPr/>
          <p:nvPr/>
        </p:nvPicPr>
        <p:blipFill>
          <a:blip r:embed="rId1"/>
          <a:stretch/>
        </p:blipFill>
        <p:spPr>
          <a:xfrm>
            <a:off x="1143000" y="3809880"/>
            <a:ext cx="2284560" cy="22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C:\Documents and Settings\jones62\Local Settings\Temporary Internet Files\Content.IE5\73MURPX2\MCj01495100000[1].wmf"/>
          <p:cNvPicPr/>
          <p:nvPr/>
        </p:nvPicPr>
        <p:blipFill>
          <a:blip r:embed="rId2"/>
          <a:stretch/>
        </p:blipFill>
        <p:spPr>
          <a:xfrm>
            <a:off x="4800600" y="2895480"/>
            <a:ext cx="3781440" cy="2911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la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iece of cloth, usually rectangular, of distinctive color and design, used as a symb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C:\Documents and Settings\jones62\Local Settings\Temporary Internet Files\Content.IE5\3Q3XBORY\MPj04386450000[1].jpg"/>
          <p:cNvPicPr/>
          <p:nvPr/>
        </p:nvPicPr>
        <p:blipFill>
          <a:blip r:embed="rId1"/>
          <a:stretch/>
        </p:blipFill>
        <p:spPr>
          <a:xfrm>
            <a:off x="4648320" y="2743200"/>
            <a:ext cx="4057560" cy="3246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C:\Documents and Settings\jones62\Local Settings\Temporary Internet Files\Content.IE5\73MURPX2\MPj04386220000[1].jpg"/>
          <p:cNvPicPr/>
          <p:nvPr/>
        </p:nvPicPr>
        <p:blipFill>
          <a:blip r:embed="rId2"/>
          <a:stretch/>
        </p:blipFill>
        <p:spPr>
          <a:xfrm>
            <a:off x="228600" y="3429000"/>
            <a:ext cx="3828960" cy="3063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d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one in charge that you may listen to or follow the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1" descr="C:\Documents and Settings\jones62\Local Settings\Temporary Internet Files\Content.IE5\3Q3XBORY\MCj04375430000[1].wmf"/>
          <p:cNvPicPr/>
          <p:nvPr/>
        </p:nvPicPr>
        <p:blipFill>
          <a:blip r:embed="rId1"/>
          <a:stretch/>
        </p:blipFill>
        <p:spPr>
          <a:xfrm>
            <a:off x="1076400" y="2835360"/>
            <a:ext cx="6391080" cy="331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a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solemn, formal declaration or promise to fulfill a p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3" descr="oath.jpg"/>
          <p:cNvPicPr/>
          <p:nvPr/>
        </p:nvPicPr>
        <p:blipFill>
          <a:blip r:embed="rId1"/>
          <a:stretch/>
        </p:blipFill>
        <p:spPr>
          <a:xfrm>
            <a:off x="2666880" y="2666880"/>
            <a:ext cx="373392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sid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erson who is elected to have authority or control over a group of peopl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3" descr="clinton.gif"/>
          <p:cNvPicPr/>
          <p:nvPr/>
        </p:nvPicPr>
        <p:blipFill>
          <a:blip r:embed="rId1"/>
          <a:stretch/>
        </p:blipFill>
        <p:spPr>
          <a:xfrm>
            <a:off x="1066680" y="2971800"/>
            <a:ext cx="1791000" cy="2552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washington.gif"/>
          <p:cNvPicPr/>
          <p:nvPr/>
        </p:nvPicPr>
        <p:blipFill>
          <a:blip r:embed="rId2"/>
          <a:stretch/>
        </p:blipFill>
        <p:spPr>
          <a:xfrm>
            <a:off x="5638680" y="3124080"/>
            <a:ext cx="1695600" cy="247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lia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daughter. She is in the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2" descr="http://images.huffingtonpost.com/gadgets/slideshows/865/slide_865_15133_large.jpg"/>
          <p:cNvPicPr/>
          <p:nvPr/>
        </p:nvPicPr>
        <p:blipFill>
          <a:blip r:embed="rId1"/>
          <a:stretch/>
        </p:blipFill>
        <p:spPr>
          <a:xfrm>
            <a:off x="1600200" y="259092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med fo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m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v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ir For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1" descr="C:\Documents and Settings\jones62\Local Settings\Temporary Internet Files\Content.IE5\HJMT9WVH\MCj04299090000[1].wmf"/>
          <p:cNvPicPr/>
          <p:nvPr/>
        </p:nvPicPr>
        <p:blipFill>
          <a:blip r:embed="rId1"/>
          <a:stretch/>
        </p:blipFill>
        <p:spPr>
          <a:xfrm>
            <a:off x="6400800" y="914400"/>
            <a:ext cx="1854360" cy="1832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C:\Documents and Settings\jones62\Local Settings\Temporary Internet Files\Content.IE5\SHESL96M\MPj04224220000[1].jpg"/>
          <p:cNvPicPr/>
          <p:nvPr/>
        </p:nvPicPr>
        <p:blipFill>
          <a:blip r:embed="rId2"/>
          <a:stretch/>
        </p:blipFill>
        <p:spPr>
          <a:xfrm>
            <a:off x="5791320" y="3962520"/>
            <a:ext cx="2438280" cy="1749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C:\Documents and Settings\jones62\Local Settings\Temporary Internet Files\Content.IE5\SHESL96M\MPj04224220000[1].jpg"/>
          <p:cNvPicPr/>
          <p:nvPr/>
        </p:nvPicPr>
        <p:blipFill>
          <a:blip r:embed="rId3"/>
          <a:stretch/>
        </p:blipFill>
        <p:spPr>
          <a:xfrm>
            <a:off x="5334120" y="-2583000"/>
            <a:ext cx="3809880" cy="2732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C:\Program Files\Microsoft Office\MEDIA\CAGCAT10\j0233070.wmf"/>
          <p:cNvPicPr/>
          <p:nvPr/>
        </p:nvPicPr>
        <p:blipFill>
          <a:blip r:embed="rId4"/>
          <a:stretch/>
        </p:blipFill>
        <p:spPr>
          <a:xfrm>
            <a:off x="228600" y="4648320"/>
            <a:ext cx="2962440" cy="1484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C:\Documents and Settings\jones62\Local Settings\Temporary Internet Files\Content.IE5\HJMT9WVH\MCj04299150000[1].wmf"/>
          <p:cNvPicPr/>
          <p:nvPr/>
        </p:nvPicPr>
        <p:blipFill>
          <a:blip r:embed="rId5"/>
          <a:stretch/>
        </p:blipFill>
        <p:spPr>
          <a:xfrm>
            <a:off x="2819520" y="2286000"/>
            <a:ext cx="1838160" cy="1806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cret serv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ople hired to protect the President at all tim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Agents ????"/>
          <p:cNvPicPr/>
          <p:nvPr/>
        </p:nvPicPr>
        <p:blipFill>
          <a:blip r:embed="rId1"/>
          <a:stretch/>
        </p:blipFill>
        <p:spPr>
          <a:xfrm>
            <a:off x="1938240" y="2666880"/>
            <a:ext cx="585324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asha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 youngest daughter. She is in 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2" descr="http://images.huffingtonpost.com/gadgets/slideshows/865/slide_865_15137_large.jpg"/>
          <p:cNvPicPr/>
          <p:nvPr/>
        </p:nvPicPr>
        <p:blipFill>
          <a:blip r:embed="rId1"/>
          <a:stretch/>
        </p:blipFill>
        <p:spPr>
          <a:xfrm>
            <a:off x="1981080" y="259092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keep away from danger or har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mom and dad always protect me by holding my hand when I cross the stre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ite Hou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executive mansion of the President of the United States. This is where the President lives and work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3" descr="white house.jpg"/>
          <p:cNvPicPr/>
          <p:nvPr/>
        </p:nvPicPr>
        <p:blipFill>
          <a:blip r:embed="rId1"/>
          <a:stretch/>
        </p:blipFill>
        <p:spPr>
          <a:xfrm>
            <a:off x="1523880" y="2819520"/>
            <a:ext cx="5924520" cy="3828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activity  you do that you produce or accomplish someth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ckson had to </a:t>
            </a:r>
            <a:r>
              <a:rPr b="0" lang="en-US" sz="2600" spc="-1" strike="noStrike">
                <a:solidFill>
                  <a:srgbClr val="0b5395"/>
                </a:solidFill>
                <a:latin typeface="Constantia"/>
              </a:rPr>
              <a:t>work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d on his science proje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mom had to go to </a:t>
            </a:r>
            <a:r>
              <a:rPr b="0" lang="en-US" sz="2600" spc="-1" strike="noStrike">
                <a:solidFill>
                  <a:srgbClr val="0b5395"/>
                </a:solidFill>
                <a:latin typeface="Constantia"/>
              </a:rPr>
              <a:t>work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 the hospital yesterda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1" descr="C:\Documents and Settings\jones62\Local Settings\Temporary Internet Files\Content.IE5\ZO7J9NGJ\MPj04225270000[1].jpg"/>
          <p:cNvPicPr/>
          <p:nvPr/>
        </p:nvPicPr>
        <p:blipFill>
          <a:blip r:embed="rId1"/>
          <a:stretch/>
        </p:blipFill>
        <p:spPr>
          <a:xfrm>
            <a:off x="4952880" y="4343400"/>
            <a:ext cx="3448080" cy="2027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pee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lking to a large group of people. Who is giving this speec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tin Luther King J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5" descr="mlk.jpg"/>
          <p:cNvPicPr/>
          <p:nvPr/>
        </p:nvPicPr>
        <p:blipFill>
          <a:blip r:embed="rId1"/>
          <a:stretch/>
        </p:blipFill>
        <p:spPr>
          <a:xfrm>
            <a:off x="4495680" y="2514600"/>
            <a:ext cx="360540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m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someone says that they will or will not do someth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Documents and Settings\jones62\Local Settings\Temporary Internet Files\Content.IE5\73MURPX2\MCPE03088_0000[1].wmf"/>
          <p:cNvPicPr/>
          <p:nvPr/>
        </p:nvPicPr>
        <p:blipFill>
          <a:blip r:embed="rId1"/>
          <a:stretch/>
        </p:blipFill>
        <p:spPr>
          <a:xfrm>
            <a:off x="2666880" y="2590920"/>
            <a:ext cx="3353040" cy="3849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val Off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Oval Office is the president's formal worksp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is where he often addresses the American public and the world on television or rad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the president deals with the issues of the da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3" descr="oval office.jpg"/>
          <p:cNvPicPr/>
          <p:nvPr/>
        </p:nvPicPr>
        <p:blipFill>
          <a:blip r:embed="rId1"/>
          <a:stretch/>
        </p:blipFill>
        <p:spPr>
          <a:xfrm>
            <a:off x="2286000" y="3886200"/>
            <a:ext cx="440388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ashington D.C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ur nation’s capita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went to Washington D.C. and saw the White House and the Washington Monu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le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ight or ability to make a choi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1" descr="C:\Documents and Settings\jones62\Local Settings\Temporary Internet Files\Content.IE5\73MURPX2\MPj03848740000[1].jpg"/>
          <p:cNvPicPr/>
          <p:nvPr/>
        </p:nvPicPr>
        <p:blipFill>
          <a:blip r:embed="rId1"/>
          <a:stretch/>
        </p:blipFill>
        <p:spPr>
          <a:xfrm>
            <a:off x="736560" y="3352680"/>
            <a:ext cx="3301920" cy="316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Documents and Settings\jones62\Local Settings\Temporary Internet Files\Content.IE5\73MURPX2\MCj02809250000[1].wmf"/>
          <p:cNvPicPr/>
          <p:nvPr/>
        </p:nvPicPr>
        <p:blipFill>
          <a:blip r:embed="rId2"/>
          <a:stretch/>
        </p:blipFill>
        <p:spPr>
          <a:xfrm>
            <a:off x="4856040" y="1981080"/>
            <a:ext cx="360360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4:02:37Z</dcterms:created>
  <dc:creator>Hillsborough Public Schools</dc:creator>
  <dc:description/>
  <dc:language>en-US</dc:language>
  <cp:lastModifiedBy>RomaK</cp:lastModifiedBy>
  <dcterms:modified xsi:type="dcterms:W3CDTF">2015-09-02T09:51:02Z</dcterms:modified>
  <cp:revision>40</cp:revision>
  <dc:subject/>
  <dc:title>Barack Obama</dc:title>
</cp:coreProperties>
</file>